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06EDE-CE43-4E0B-85E5-39B64912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707D0-F499-4CA3-9A74-8CE44D4D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09B20-44C9-4615-909B-EA59413D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81BC6-E1CA-4461-9A7C-276A0AE0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A5C1-1F11-4FF1-B3EE-BCC5AAC9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200E-EA41-4723-A684-E860672E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8054-D7D8-4121-AA5F-F547BCFB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EEA4-F302-444B-8B75-B6EBC521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8D32-4044-486F-8FA7-71670AA9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D065-1567-444F-AE16-286F91F8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1585-52A5-4E80-9F07-DA6C11AB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B5605-A806-46FB-94F4-EAFAF649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C1A7-1DCC-4852-A340-8BFF702A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4632-F105-4B5B-A407-81AF789A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C24A-5582-4E63-9DD5-31B3B16A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2F15-1F0B-4192-A564-897A89BF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7DFF-D3F4-45F0-9CB2-4590DB21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1A9D5-2404-45E6-95F1-1241879A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D851A-1F91-4FA3-9A2C-F44B41FF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432C8-1DED-4371-AA33-03F31DAD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EAD50-C55F-408D-9C5F-B21D588D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6E8AF-1FF2-41CD-9999-0176D7E8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584E1-0BE0-4891-860A-71936AAD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A51E5-80CA-4D25-9172-8E0A1775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6720-9C09-4996-BC44-010BC348164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CDA1-A327-49C2-96FB-B7D5E8ED04C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isdom Literature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(Of the United Kingdom Period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ng of Solo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l Lesson of Quarter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Basic Poin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tch the little foxes – remove the destructive things that can ruin a good marri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love al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love p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United Kingdo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salms (many of the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erbs (most of the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clesias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ng of Solo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038120" y="5181480"/>
            <a:ext cx="129564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uthor -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wrote 1,005 songs (1 Kings 4:3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was a reason why the Holy Spirit inspired someone to write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was a reason why it is included in B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etting -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possibiliti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may be Solomon and his new bride as they seek to resolve their differences and come to a loving relationshi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may be Solomon trying to win the love of a maiden who loves an humble shepher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ldron suggests the second of these as our basis for interpreting the bo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ong of Solom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Old Testament book written in the form of a lyrical love so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interpreters believe this song speaks symbolically of the love of God for the nation of Israe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ology of Christ and His Bride, The Chu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erally, a healthy attraction of love and marri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 Poem With Three Speaker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1) the groom, King Solomon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2) the bride, a woman referred to as "the Shulamite" (6:13); a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3) the "daughters of Jerusalem" (2:7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wo Major Section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eginning of love  (1-4) 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roadening of love  (5-8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Basic Outli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ts Preceding The Wedding 1:1 -3: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ide: Tells of her attraction to Solom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oom: Tells of his attraction to 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ts Accompanying The Wedding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:6 – 5: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oming of Solomon   3: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arriage  - 3:7-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rown  - 3:1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ompliments to his bride – 4:1-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omment of his wife – 4: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omment of the young women – 5: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Basic Outli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nts Following the Wedding Nigh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5:2 – 8: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regard to the w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 dream  5:2-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 desire – 7:10 – 8: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 description of her lover  5:10-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 description of her love – 8:6-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regard to the husband – 6:4-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21:10:20Z</dcterms:created>
  <dc:creator>Terry W. Benton</dc:creator>
  <dc:description/>
  <dc:language>en-US</dc:language>
  <cp:lastModifiedBy>Frank D Vines</cp:lastModifiedBy>
  <dcterms:modified xsi:type="dcterms:W3CDTF">2005-09-25T06:39:04Z</dcterms:modified>
  <cp:revision>2</cp:revision>
  <dc:subject/>
  <dc:title>Wisdom Literature (Of the United Kingdom Period)</dc:title>
</cp:coreProperties>
</file>